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2951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760" y="0"/>
            <a:ext cx="29509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4500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61240"/>
            <a:ext cx="295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DBE7C-6515-42ED-8326-7DC1B38E48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76917-B364-4B15-99C2-262322275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A6AF4-EBCD-479F-9780-BAA708CED1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5EBF1-726E-4598-9155-BAD3E11459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4F08E-815F-4009-9130-BB9389047F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5B66-9AD0-4F44-879F-AB9A38419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72C0D-4AC5-48C8-954A-9B34DA90D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1119F-695B-4D7D-AC60-E41630C8E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B32E-7073-4663-9DAA-F343D53188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14E4B-A31F-4874-820D-691A86097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F13EB-45E3-4CD2-80CD-EBED4503A2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3BF17-F521-40EB-9E6A-87E1A3A5F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085B1-3546-4EFD-AEDA-D9EAD34929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6A733-DED4-4AAD-A1B6-31AB3D67E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8CD77-A5BA-4102-9A6D-FBF26ED452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BACCB-9A91-4C61-83E1-36A877B9E0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499E6-2247-4477-8C4B-3021311C8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B94D2-4597-4526-8FE6-62B0C37EB4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A3681-AC3D-46C4-9BC7-87BFADB86C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747B-8D94-41C2-A766-125EEB1D9A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9BADC-E5A0-48CC-B146-0CCADFE43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D397-DEDF-4844-B830-F2119FA1A5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FC5C-F712-4D98-B3B8-AA25D5DE2C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3EFE3-3661-4727-B4A1-4B405FADF5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08AEA-470E-4788-964E-78B5DC9F2E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B59A6-7DB6-4480-B45F-529AF11F80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AE144-085E-4961-B80F-FD649ADBD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DE2E5-6273-437F-927D-FD23A62C43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3C91C-5F4D-4DB1-957C-E7478DDDB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78BE1-EFF7-44B6-B6DB-3E3BEAF2F2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9794C-7281-4B8C-A36D-58BF22A638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191D4-5F2E-4898-B5F9-C1A44A16CA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1ED26-B82D-4A8C-8240-5D5BB348A8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6240" y="685800"/>
            <a:ext cx="454644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7806-FCA6-407F-89CB-CE19AB385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1F0B-5DEA-48BF-9A64-398EEDDE2D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00CB-7FD5-4594-9512-C554C3548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51FB-0999-4C9D-A611-2ACA87A90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D5E6-764B-4094-89EB-F02F231D5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028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72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028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72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28D9-3839-4CDF-9549-AFD5EBED6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2A8C-0B14-46C2-B605-ED4E9E646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AC79-9889-454F-997F-4683E2638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58B1-A456-4983-AB6A-273EAD5A0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0047-7AA8-4467-9E8B-32695877B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115560"/>
            <a:ext cx="7516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BADE-FDA3-4447-88A6-9E6289B0A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EEBC-DD97-46FD-A494-5D94CBDF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D07C-BA2C-4ADD-B0EE-B1838D76C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679D-4435-4491-9180-25F7F32B7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248520"/>
            <a:ext cx="2112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248520"/>
            <a:ext cx="2874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06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3868-7033-4151-9C83-862530DA34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linux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654120"/>
            <a:ext cx="678168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 Worgrou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k Upd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1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763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quashFS LZMA/LZO Suppor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MA and LZO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Phillip Loug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MA work was submitted, and was in Linux-next, but got rej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752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ZO work (contributed by LGE) was mainlined!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M improvements in U-boo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aspects of U-boot for A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 relocating bootload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rn caches on for faster boo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Wolfgang Den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was completed and mainlined in U-Bo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6360" y="114480"/>
            <a:ext cx="7529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Result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3848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for boot time into app code is 5s so U-boot image compression was not possible. But now it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130000"/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from Matthias Weißer on Aug 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130000"/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article.gmane.org/gmane.comp.boot-loaders.u-boot/8207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0520" y="1496880"/>
          <a:ext cx="8640360" cy="2449800"/>
        </p:xfrm>
        <a:graphic>
          <a:graphicData uri="http://schemas.openxmlformats.org/drawingml/2006/table">
            <a:tbl>
              <a:tblPr/>
              <a:tblGrid>
                <a:gridCol w="3651480"/>
                <a:gridCol w="1927800"/>
                <a:gridCol w="1441800"/>
                <a:gridCol w="1619280"/>
              </a:tblGrid>
              <a:tr h="5943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Old (icach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New (i+d cac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mpro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7da647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U-boot imag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91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04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bb400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Copy 32M NOR -&gt; 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7.0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6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.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minfo of 1.2 MiB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1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5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1.2 MiB gz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5.4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0.8 MiB lzma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7,1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.5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5604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ootm of 1.6 MiB lzo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3.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0.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x 1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format standar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 singled trace format standard for the embedded indus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Efficios (Matthieu Desnoye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(Common Trace Format) was cre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www.efficios.com/ct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belTrace trace conversion libr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of of concept conversion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convert kernel messages with timestamps to CTF and back to tex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xecboot improvemen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user interface and supported storage devices for kexecboo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 has been enhan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n reading other storage devices was comple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ash filesystem tes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 different flash filesystems for comparis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were shown at ELC Europe 20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 2011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76360" y="114480"/>
            <a:ext cx="75344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Project Propos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719360"/>
            <a:ext cx="845820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ideas were collected in Dec. 2010 and Jan.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ds were solicited in Ma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 Group approved projects in Apr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 projects approved out of 2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have budget for more pro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s are being finalized n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68160" indent="-66816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SzPct val="130000"/>
              <a:buFont typeface="Arial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good list, but would like more proposals from CE WG/LF memb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2011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19360"/>
            <a:ext cx="8534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rove UBIFS mount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Android kernel fea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fast symbol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on Linux tiny patch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upport read-only block filesystems on flash de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2011 (cont.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1936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content for kernel trace and deb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the watchdog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 with Remote SIM Access protoc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Device Firmware Upgrade (DFU) code in U-Bo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licit project proposals throughout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of merger with Linux Foun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of 2010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 for 2011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mee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initia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mprove UBIFS mount tim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logging or checkpointing to UBI to avoid bad-block scan of whole device on UBI atta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Linutronix (Thomas Gleixn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almost finis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Android kernel featur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a single Android feature (logger) to mainline, as a pilot project for 3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r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ty mainlining of Androi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term goal is to mainline as much of Android as possible, to reduce difference and allow for easier “unified distro kernel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rnel that can run Ubuntu, Android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have interest from Alessio Boga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ill working on project plan and b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360" y="115920"/>
            <a:ext cx="75232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fast symbol resolu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symbol lookup to use binary search instead of linear sc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eds up module loa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ssio Boga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33660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ches are in linux-nex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 on Linux tiny patch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ve Linux-tiny patch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-port patches to latest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more patches to improve kernel configur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We Zhanj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pport read-only block filesystems on flash med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block emulation layer to support read-only filesystems on top of MTD layer in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allow Squashfs to be used on raw NAND flash m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hillip Loug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in pro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nux wiki content for trace and debu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ct content on kernel trace and debug techniques and publish on eLinux wi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eter Huew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the watchdog frame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line the watchdog frame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al framework was written by Alan Cox and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a generalized watchdog mechan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provide easier method to add watchdogging to drivers and the kernel going forwa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s: Wolfram Sang and Wim van Sebroe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ash filesystem test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mount and runtime performance tests on multiple flash filesystems, for each new kernel rele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 results on eLinux wi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d bluetooth stack with Remote SIM Access protoco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for Linux bluetooth and telephony stack to utilize SIM in external device for op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use case is for Linux-based in-car system to utilize SIM in mobile device for call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roF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almost comple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Device Firmware Upgrade (DFU) code in U-Boo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ice Firmware Upgrade (DFU) is an industry standard system for upgrading and manipulating firmware in embedded de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for this protocol to U-Boot mai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Stefan Schmid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Merger Statu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112680"/>
            <a:ext cx="75279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icit project proposals throughout the ye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19360"/>
            <a:ext cx="82231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 Workgroup will continue to maintain the Project Proposal wiki page, and will continue accepting ideas and proposals for contract work through 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will allow ideas to come in as they are generated and relevant, instead of accumulating them throughout the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Bill Trayn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5440"/>
                <a:tab algn="l" pos="782640"/>
                <a:tab algn="l" pos="1239840"/>
                <a:tab algn="l" pos="1697040"/>
                <a:tab algn="l" pos="2154240"/>
                <a:tab algn="l" pos="2611440"/>
                <a:tab algn="l" pos="3068640"/>
                <a:tab algn="l" pos="3525840"/>
                <a:tab algn="l" pos="3983040"/>
                <a:tab algn="l" pos="4440240"/>
                <a:tab algn="l" pos="4897440"/>
                <a:tab algn="l" pos="5354640"/>
                <a:tab algn="l" pos="5811840"/>
                <a:tab algn="l" pos="6269040"/>
                <a:tab algn="l" pos="6726240"/>
                <a:tab algn="l" pos="7183440"/>
                <a:tab algn="l" pos="7640640"/>
                <a:tab algn="l" pos="8097840"/>
                <a:tab algn="l" pos="8555040"/>
                <a:tab algn="l" pos="9012240"/>
                <a:tab algn="l" pos="9469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ct ready to 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ferences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76360" y="114480"/>
            <a:ext cx="7529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393920"/>
            <a:ext cx="82915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2011 and Android Builders Summ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deos just announced – see wiki p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to-san will give a report later to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Con Japan – June 1-3, Yokoh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Europe 2011 – Oct 26-28, Pr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Con Brazil – Nov 17-18, Sao Pau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nuing Japan Jambore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C and Android Builders Summit in 20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http://events.linuxfoundation.com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http://elinux.org/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Summi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-only event to discuss embedded issues between key industry and community lea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held September 30, 2010 in Tokyo and October 26 in Cambrige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ilar to other mini-summits, but with focus on embedded iss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ing up to kernel summit in Novemb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lead to several initiat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one was longterm kernel branch, maintained by Andi Kle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BOF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-only event to discuss Android mainline iss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held April 14 in San Francisc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aro, CE WG, Google and Qualcomm attend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good discussion about what different members of the “Android/Linux ecosystem” could do to coordinate work and mainline Android technolo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“mainline Android logger” project is a result of this mee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ther Initia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930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19360"/>
            <a:ext cx="8210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linux.org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pedia for embedded Linux develop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technical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 have been working on Android Portal section of s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ently moved to OSU Open Source Lab ho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st – just finished best editor contes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ease use it and post stu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ardware Dona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donates hardware for some open source develop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Board for BKL removal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 me if you need hardware for a project that you think CELF would be interested 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3930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rger with Linux Found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rger was completed in January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inal legal details still being wrapped 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is now the Linux Foundation “CE Workgroup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w starting to utilize Linux Foundation infra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uld mean it's easier for non-members to participate in CE WG project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76360" y="476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 2010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3824280"/>
            <a:ext cx="624852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 201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chart and smemcap in busybo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unction-s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AFFS2 mainline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-Boot ARM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e format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xecboot enhanc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Bootchart and smemcap support in busybox Smemcap apple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chart applet - Captures bootchart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elinux.org/Japan_Technical_Jamboree_3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 http://elinux.org/Bootchart#BusyBo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emcap applet – captures smem d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can be moved to host for analysis and visu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 Comple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ets are available in busybox main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-sec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to Linux kernel for gcc –ffunction-sections option, to shrink kernel size by improving dead code remo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s each function in its own linker s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d a big section rename in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parts mainli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iting to resolve linker issues for weird symbols on PARIS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ort stalled – need to finis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115920"/>
            <a:ext cx="752472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1936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FFS2 is a popular NAND flash file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 used by Android in many devic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support for YAFFS2 to mainline kern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ph One Lt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gle Co-Sponsored this proj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mainline attempts made, but hit some barri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ly stuck on some locking iss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look for mainline acceptance is uncert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1-05-19T21:03:59Z</dcterms:modified>
  <cp:revision>78</cp:revision>
  <dc:subject/>
  <dc:title>スライド 1</dc:title>
</cp:coreProperties>
</file>